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C63-6A0C-44C6-ABA4-310B92BD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28E-4F16-4255-962E-4320BF0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2C6-E83B-4054-A0CE-D1BF79CF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C9F-E4D7-4BAF-9EA3-F494E65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029-996B-41D1-B195-7472730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E4D-144E-46A2-81CB-5C1E9AD0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4A3-531B-4AD0-9D13-55D5669F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316-1143-4A49-8F4F-F5A03785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2FB-BB42-4324-86A9-301C9E4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C04-ACA6-46FA-BE50-942FFEA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196-9DA9-4965-89EF-66AF5E6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138-4480-4324-A576-D898AD1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A51-B3F1-402C-AAFE-0D3B7A33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illiam Pick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1910 –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440000" cy="12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1762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illiam was born in 19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 attended school in Welling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ent one year at Canterbury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nished degree and PhD in Physics at the California Institute of Technology in 193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 specialised in electrical engine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476280"/>
            <a:ext cx="78444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784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4:26:44Z</dcterms:created>
  <dc:creator>Preferred Customer</dc:creator>
  <dc:description/>
  <dc:language>en-US</dc:language>
  <cp:lastModifiedBy>Preferred Customer</cp:lastModifiedBy>
  <dcterms:modified xsi:type="dcterms:W3CDTF">2011-05-31T05:03:39Z</dcterms:modified>
  <cp:revision>4</cp:revision>
  <dc:subject/>
  <dc:title>William Pickering</dc:title>
</cp:coreProperties>
</file>